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98F4B-195B-4BBA-8657-5B7E57712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80DE6-A996-4F91-9C67-5CD2E6954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385-39B7-4AA5-80B3-1D3F329A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6B9-FC22-49FD-BF0B-F646CFC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730-FEFE-403A-B0EC-1EF4C203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249-FA4D-470A-B906-77ED4EB0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7FF-FF5D-4AC4-8AAF-D04D06D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96E-1AA2-41AC-B3A7-1150E04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616-22E5-4AC0-8DDC-4D521BB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7E1-F4A7-45C5-8CE3-79C55B5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D2A-7390-43C5-8933-51FE80F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5C2-C27A-4322-8545-4B35767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AB2-329B-4ECB-BEB1-D3154CA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AB8-28E3-420B-A020-C75ABED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1711D-6A90-409C-B6DC-93EFE88DB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dden Markov Models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Algorithms: forward, backward and Baum-Wel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sda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January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58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 Daniel Wilson</a:t>
            </a:r>
            <a:br>
              <a:rPr sz="2400"/>
            </a:b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 Chieh-Hsi (Jessie) Wu</a:t>
            </a:r>
            <a:br>
              <a:rPr sz="2400"/>
            </a:b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ffield Department of 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isat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, …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3503520" y="2855880"/>
                <a:ext cx="2124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3394080" y="4260960"/>
                <a:ext cx="28465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3662280" y="5481720"/>
                <a:ext cx="195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ward algorithm - Visu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3246480" y="5964120"/>
                <a:ext cx="28465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TextBox 8"/>
          <p:cNvSpPr/>
          <p:nvPr/>
        </p:nvSpPr>
        <p:spPr>
          <a:xfrm>
            <a:off x="2825640" y="1420920"/>
            <a:ext cx="383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1" descr="forwardVisual.png"/>
          <p:cNvPicPr/>
          <p:nvPr/>
        </p:nvPicPr>
        <p:blipFill>
          <a:blip r:embed="rId1"/>
          <a:srcRect l="-40913" t="0" r="-40913" b="0"/>
          <a:stretch/>
        </p:blipFill>
        <p:spPr>
          <a:xfrm>
            <a:off x="457200" y="1600200"/>
            <a:ext cx="92185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imes, we would like to know what is the probability that hidden state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produced the observation at positio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requires first calculating the joint probability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and the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can be calculated using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/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equired joint probability can be re-writt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irst term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…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  <a:ea typeface="Symbo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, is computed using the forward algorit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econd term is obtained by a backward recursion starting at the end of the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531800" y="2201760"/>
                <a:ext cx="694404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k,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, which represents  the probability that the partial observatio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generated given the hidden state at positio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is analogous to the forward probability and can be obtained by the backward algorith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isat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L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1 for al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1, …, 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2413080" y="3776760"/>
                <a:ext cx="3274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2462040" y="5099040"/>
                <a:ext cx="317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ward algorithm - Visu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3160800" y="5948280"/>
                <a:ext cx="3274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93" name="Content Placeholder 3" descr="backwardVisual.png"/>
          <p:cNvPicPr/>
          <p:nvPr/>
        </p:nvPicPr>
        <p:blipFill>
          <a:blip r:embed="rId1"/>
          <a:srcRect l="-27927" t="0" r="-27927" b="0"/>
          <a:stretch/>
        </p:blipFill>
        <p:spPr>
          <a:xfrm>
            <a:off x="457200" y="183816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49600" y="1606680"/>
            <a:ext cx="343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est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e examples presented so far, we have been give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 prior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values of the parameters of the HMM, incl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hidden state transition matrix,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initial distribution of the hidden state,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emission probabilities,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ever, in practice, these parameters are often not known and therefore have to be estimated from th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. The goal is to find parameter values that maximiz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ikelihood (the full probability of a sequence of observations), P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in other word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3417840" y="5521320"/>
                <a:ext cx="2378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estimation for HM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the hidden state path is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ollowing can be calcu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# times transition from hidden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o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ccur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#times hidden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oduces observat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maximum likelihood estimator for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838600" y="4965840"/>
                <a:ext cx="3606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estimation for HM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the hidden state sequence is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maximum likelihood estimate of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nnot be calculated analyt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gorithms for optimisation have to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xpectation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ximization (EMs)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algorithm starts with some initial value, then iteratively re-estimates the parameters to improv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|new values of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obability of an observed sequen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ight be interested to find the full probability of a sequence of observation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the HMM model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resents the HMM model para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lso called the likelih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quires adding up the probabilities for all possible hidden state paths in the H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ymbo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Symbo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ymbol"/>
              </a:rPr>
              <a:t> is the path of hidden st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2981160" y="4842000"/>
                <a:ext cx="2725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-estimation of the transition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n the current model parameters and the sequence of observations, the probability of being at hidden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t posit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oing to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t posit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+ 1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395440" y="3675240"/>
                <a:ext cx="432936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l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-estimation of the transition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ui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244520" y="2770200"/>
                <a:ext cx="70930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ected number of transitions from stat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to state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ected number of transitions from state 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3552840" y="4305240"/>
                <a:ext cx="21445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-estimation of the transition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define the state probability at posit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he probability of being in st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t posit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n the complete sequence of observations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re-estimated transition probabilities can be defined 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3666960" y="4824360"/>
                <a:ext cx="15210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3397320" y="2639880"/>
                <a:ext cx="1782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um-Welch Algorithm - Visuali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1" descr="forwardBackwardVisual.png"/>
          <p:cNvPicPr/>
          <p:nvPr/>
        </p:nvPicPr>
        <p:blipFill>
          <a:blip r:embed="rId1"/>
          <a:srcRect l="0" t="-14156" r="0" b="-14156"/>
          <a:stretch/>
        </p:blipFill>
        <p:spPr>
          <a:xfrm>
            <a:off x="457200" y="1577880"/>
            <a:ext cx="8229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581200" y="5329080"/>
                <a:ext cx="3792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TextBox 2"/>
          <p:cNvSpPr/>
          <p:nvPr/>
        </p:nvSpPr>
        <p:spPr>
          <a:xfrm>
            <a:off x="2525400" y="1577880"/>
            <a:ext cx="411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  <a:ea typeface="Symbo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) = 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h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  <a:ea typeface="Symbo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h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  <a:ea typeface="Symbol"/>
              </a:rPr>
              <a:t>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  <a:ea typeface="Symbol"/>
              </a:rPr>
              <a:t>+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ymbo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-estimation of the initial hidden state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-estimation of the probability that stat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the hidden start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ui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1922400" y="4154400"/>
                <a:ext cx="6008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ected number of times in stat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at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705120" y="5111640"/>
                <a:ext cx="1420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-estimation of the emission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ui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ly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= 1, if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nd 0 otherw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1434960" y="2781360"/>
                <a:ext cx="661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ected number of times in stat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and observed outcome </m:t>
                        </m:r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ected number of times in state 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3127320" y="4046400"/>
                <a:ext cx="21798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um-Welch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iti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ick arbitrary model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ur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using the forward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using the backward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the rules presented earlier, up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the new log likelihood of the model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p if the change in log likelihood is less than some predefined threshold or the maximum number of iterations is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6570720" y="3914640"/>
                <a:ext cx="1917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/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forward algorithm to calculate the full probability of the sequence you have downloaded in the previous practical s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are this probability to the probability given the hidden state path found by the Viterbi algorith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backward algorithm for the same sequ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are the probability calculated here to that calculated using the forward algorith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lculate the probabilities of being in a gene and the intergenic region at each position given the sequ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us: Implement the Baum-Welch algorithm to estimate the parameters of H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) 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gene-finding exampl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se we have a sequence 5 nucleotide triplets (S, N, S, S, N), where S codes amino acids and N codes for the stop cod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 these triplets might be in a gene (+) or in the intergenic (-)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hmmExample.png"/>
          <p:cNvPicPr/>
          <p:nvPr/>
        </p:nvPicPr>
        <p:blipFill>
          <a:blip r:embed="rId1"/>
          <a:stretch/>
        </p:blipFill>
        <p:spPr>
          <a:xfrm>
            <a:off x="236520" y="4522680"/>
            <a:ext cx="409572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hmmExample1_3.png"/>
          <p:cNvPicPr/>
          <p:nvPr/>
        </p:nvPicPr>
        <p:blipFill>
          <a:blip r:embed="rId2"/>
          <a:stretch/>
        </p:blipFill>
        <p:spPr>
          <a:xfrm>
            <a:off x="4592520" y="4522680"/>
            <a:ext cx="4094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) – Brute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this example, there would b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32 possible hidden state paths and the full probability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S, S, N, S, N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S, S, N, S, N, +, +, +, +, +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S, S, N, S, N, +, +, +, +, -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S, S, N, S, N, +, +, +, -, +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S, S, N, S, N, -, -, -, -, -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computationally expensive to calculate the probabil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enumerating all possible path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) – Brute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of possible paths increases exponentially with the length sequ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there ar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bservations and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idden states, then there ar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ossible hidden state pa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reality, a nucleotide sequence of interest could have millions of triplets, so the number of possible hidden state paths is astronomical even when there are only two hidden sta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ll probability can be calculated by a dynamic programming procedure similar to the Viterbi algorit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) – Forward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lgorithm computes partial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partial probability is the probability of reaching an intermediate state in the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se partial probabilities are computed at all sequence pos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alculating 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) – Forward algorithm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calculate the probability of reaching an intermediate hidden state as the sum of all the possible paths to that 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xample, the probability that the second triplet is in a gene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S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S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|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is calculated from all the paths represented by the arrows in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hmmExample2.png"/>
          <p:cNvPicPr/>
          <p:nvPr/>
        </p:nvPicPr>
        <p:blipFill>
          <a:blip r:embed="rId1"/>
          <a:stretch/>
        </p:blipFill>
        <p:spPr>
          <a:xfrm>
            <a:off x="1434960" y="3905280"/>
            <a:ext cx="61581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Forward algorithm – Partial Prob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et the term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 = P(observation at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| hidden state is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 x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all paths to stat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t posi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partial probabilities for observation at the last position 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) represents the probability of reaching those states going through all possible pat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the gene-finding example, the final probabilities are calculated from the paths shown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mming up these final partial probabilities gives the sum of all possible paths of the hidden states – the probability of observing the sequence given the HM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hmmExample3.png"/>
          <p:cNvPicPr/>
          <p:nvPr/>
        </p:nvPicPr>
        <p:blipFill>
          <a:blip r:embed="rId1"/>
          <a:stretch/>
        </p:blipFill>
        <p:spPr>
          <a:xfrm>
            <a:off x="2546280" y="2540160"/>
            <a:ext cx="373212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2:49:19Z</dcterms:created>
  <dc:creator>Chieh-Hsi Wu</dc:creator>
  <dc:description/>
  <dc:language>en-US</dc:language>
  <cp:lastModifiedBy>Chieh-Hsi Wu</cp:lastModifiedBy>
  <dcterms:modified xsi:type="dcterms:W3CDTF">2015-01-12T21:12:08Z</dcterms:modified>
  <cp:revision>103</cp:revision>
  <dc:subject/>
  <dc:title>PowerPoint Presentation</dc:title>
</cp:coreProperties>
</file>